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D41F-1C7B-4B47-B7C2-DB2D70BCE8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C4F8-785F-45F9-AD4E-FD6B03BCD01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B662-10FF-4FC8-BCE8-BFC25253B1C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0E3B-47CD-45C9-8EB2-0B04F418BFD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C44A-ACA6-4AA6-82EB-C9200A0F3DA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1515-BDE9-4F5F-AAE3-7C4F18E1D3E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68E2-F40C-4C0A-A706-01D5D6E8047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important t emphasis that the Death Camps were basically fa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DEA4-8043-4B94-8507-CFE1767AF81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klon B, or prussic aci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D9A2-51C5-4FA4-BDFC-265614B7418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11E3-F80B-4857-91EB-2F4465DEBEE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1845-D2DD-4121-BD83-E5D2A08E55E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C15F-ECFC-4E73-8F30-36A74CA6885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8DC9-E958-4276-9064-8CCE943B371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435B-AEED-45D8-B241-4DB7061E920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6BD5-249B-404C-AD64-419E3322148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8902-E7A0-499C-B87E-6AAE1E2CCA3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8B02-2F9C-468D-AADE-CFD910AEA46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A588-0D0E-4CE8-AAC0-2A34FF04B8C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3E16-F089-4C98-AF5C-7D44CBDFF7D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9E71-1DCC-49D7-BF62-E7CB7C5590D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4098-BD4F-49BB-A761-71F8AA378D6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C392-C0FA-41BC-988B-660DE0D1930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3CEA-2E98-4251-9E5E-41FDC7C231D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member that the black dots represent the work of the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Einsatzgrupp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1704-1E86-4DD7-A787-A5CE0206F9A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78D3-CF96-4E8F-BEA0-D2F349F8ABB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il is when a few good men decide to do no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8B5-D2C6-479F-8395-00628940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658F-46D9-4578-A127-45D6C353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49B-D951-4390-9077-7F2105C1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CDB3-8A09-4345-A1D5-F158FE1E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8B7-3116-4FCE-B090-59B0DE95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F24D-81FE-439A-90C2-D5DBE6CA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30FF-4DF6-46A6-ACC7-10ECE90C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1A0-96F2-44BE-9AE2-5A5F17C2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7B49-3A53-43CC-B323-A1B50C46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524-B0C6-4F42-9352-3CA79F8A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4EE-5638-4379-9D8B-22FA60B9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346-0152-4A4E-90DB-6E15B15E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EE90-BDD6-407D-9632-654783DE3B3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uschwitz-muzeum.oswiecim.pl/html/eng/historia_KL/foto/krematoria_komory_gazowe_foto_ausch_26.06.44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ruthdig.com/images/eartothegrounduploads/jewish_star_35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wu.edu/~erpapers/humanrights/timeline/timeline6.cfm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Times New Roman"/>
              </a:rPr>
              <a:t>EQ:  Can genocide be prevented?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Times New Roman"/>
              </a:rPr>
              <a:t>Aim:  What is the “Final Solution”?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Times New Roman"/>
              </a:rPr>
              <a:t>L43</a:t>
            </a:r>
            <a:br>
              <a:rPr sz="5400"/>
            </a:br>
            <a:endParaRPr b="0" lang="en-US" sz="4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1980720"/>
            <a:ext cx="5105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Do Now:  Look at your stages of genocide handout from Friday.  With your group fill in the “What could this look like “ column (10 minutes!!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5" descr="arbeitmachtfrei"/>
          <p:cNvPicPr/>
          <p:nvPr/>
        </p:nvPicPr>
        <p:blipFill>
          <a:blip r:embed="rId1"/>
          <a:stretch/>
        </p:blipFill>
        <p:spPr>
          <a:xfrm>
            <a:off x="5562720" y="3200400"/>
            <a:ext cx="33526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SS Tac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The SS guards who murdered the Jews were brainwashed with Anti-Semitic propagan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Naked, dirty and half starved people look like animals, which helped to reinforce the Nazi propagan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The SS used to train their new guards by encouraging them to set fire to a pit full of live victims – usually childr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Entrance to 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uschwitz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1027" descr="BirkEntrance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4592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28"/>
          <p:cNvSpPr/>
          <p:nvPr/>
        </p:nvSpPr>
        <p:spPr>
          <a:xfrm>
            <a:off x="91440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tice how it has been built to resemble a railway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uschwitz Orchestra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6" name="Picture 3" descr="auschwitz_orch"/>
          <p:cNvPicPr/>
          <p:nvPr/>
        </p:nvPicPr>
        <p:blipFill>
          <a:blip r:embed="rId1"/>
          <a:stretch/>
        </p:blipFill>
        <p:spPr>
          <a:xfrm>
            <a:off x="1219320" y="1219320"/>
            <a:ext cx="65530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Map of Auschwitz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auschwitzmap"/>
          <p:cNvPicPr/>
          <p:nvPr/>
        </p:nvPicPr>
        <p:blipFill>
          <a:blip r:embed="rId1"/>
          <a:stretch/>
        </p:blipFill>
        <p:spPr>
          <a:xfrm>
            <a:off x="685800" y="1295280"/>
            <a:ext cx="7467480" cy="49006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5105520" y="1447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New Arriv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 flipH="1">
            <a:off x="1905120" y="1828800"/>
            <a:ext cx="350496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1371600" y="3352680"/>
            <a:ext cx="60948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352680" y="49528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Destruction Through Work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 flipV="1">
            <a:off x="5181480" y="3885840"/>
            <a:ext cx="129564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 flipH="1" flipV="1">
            <a:off x="3200400" y="4343040"/>
            <a:ext cx="45720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8580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Showers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uschwitz from the ai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7" name="Picture 6" descr="Auschwitz-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447920"/>
            <a:ext cx="3798720" cy="4800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0"/>
          <p:cNvSpPr/>
          <p:nvPr/>
        </p:nvSpPr>
        <p:spPr>
          <a:xfrm>
            <a:off x="5257800" y="15238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Notice how the Death camp is set out like a factory compl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5410080" y="335268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The Nazis used industrial methods to murder the Jews and process their dead bodie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12"/>
          <p:cNvSpPr/>
          <p:nvPr/>
        </p:nvSpPr>
        <p:spPr>
          <a:xfrm flipH="1">
            <a:off x="2819160" y="2133720"/>
            <a:ext cx="2819160" cy="304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Method of Killing:  Gas Chamb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azis would force large groups of prisoners into small cement rooms and let acidic gas fill the roo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gas chambers were sometimes disguised as showers or bathing hou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7" descr="gas_chamber"/>
          <p:cNvPicPr/>
          <p:nvPr/>
        </p:nvPicPr>
        <p:blipFill>
          <a:blip r:embed="rId1"/>
          <a:stretch/>
        </p:blipFill>
        <p:spPr>
          <a:xfrm>
            <a:off x="457200" y="1676520"/>
            <a:ext cx="4114800" cy="38862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228600" y="6172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The SS would try and pack up to 2000 people into this gas chamber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he outside of the Gas Chamb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6" name="Picture 4" descr="creamatoria"/>
          <p:cNvPicPr/>
          <p:nvPr/>
        </p:nvPicPr>
        <p:blipFill>
          <a:blip r:embed="rId1"/>
          <a:stretch/>
        </p:blipFill>
        <p:spPr>
          <a:xfrm>
            <a:off x="1600200" y="1676520"/>
            <a:ext cx="6019920" cy="416556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8"/>
          <p:cNvGrpSpPr/>
          <p:nvPr/>
        </p:nvGrpSpPr>
        <p:grpSpPr>
          <a:xfrm>
            <a:off x="685800" y="3200040"/>
            <a:ext cx="7543800" cy="3355560"/>
            <a:chOff x="685800" y="3200040"/>
            <a:chExt cx="7543800" cy="3355560"/>
          </a:xfrm>
        </p:grpSpPr>
        <p:sp>
          <p:nvSpPr>
            <p:cNvPr id="148" name="Text Box 5"/>
            <p:cNvSpPr/>
            <p:nvPr/>
          </p:nvSpPr>
          <p:spPr>
            <a:xfrm>
              <a:off x="685800" y="6095880"/>
              <a:ext cx="75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Notice the Ovens easy located near the Gas Chamb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 flipH="1" flipV="1">
              <a:off x="1980720" y="3504960"/>
              <a:ext cx="304920" cy="2514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 flipV="1">
              <a:off x="3657600" y="3200040"/>
              <a:ext cx="304920" cy="2971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rocessing the bod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pecially selected Jewish people were used to to remove the gold fillings, rings and hair of people who had been gas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6" descr="OVENS"/>
          <p:cNvPicPr/>
          <p:nvPr/>
        </p:nvPicPr>
        <p:blipFill>
          <a:blip r:embed="rId1"/>
          <a:stretch/>
        </p:blipFill>
        <p:spPr>
          <a:xfrm>
            <a:off x="228600" y="1924200"/>
            <a:ext cx="42670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ings taken off the bodies at Buchenwa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5" name="Picture 1029" descr="80623"/>
          <p:cNvPicPr/>
          <p:nvPr/>
        </p:nvPicPr>
        <p:blipFill>
          <a:blip r:embed="rId1"/>
          <a:srcRect l="0" t="3973" r="0" b="0"/>
          <a:stretch/>
        </p:blipFill>
        <p:spPr>
          <a:xfrm>
            <a:off x="1523880" y="1981080"/>
            <a:ext cx="594360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he Ovens at Dacha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4" descr="dachoven"/>
          <p:cNvPicPr/>
          <p:nvPr/>
        </p:nvPicPr>
        <p:blipFill>
          <a:blip r:embed="rId1"/>
          <a:stretch/>
        </p:blipFill>
        <p:spPr>
          <a:xfrm>
            <a:off x="1066680" y="1752480"/>
            <a:ext cx="662940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relude to the “Final Solution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y 1939, half of Germany’s 500,000 Jewish people had emigrated to escape Nazi persecu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1940, all Jews had to have their passports stamped with the letter ‘J’ and had to wear the  yellow Star of David on their jacket or co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4" descr="jewish_star_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905120"/>
            <a:ext cx="38098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Dead bodies waiting to be process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1027" descr="MAUTHAUS"/>
          <p:cNvPicPr/>
          <p:nvPr/>
        </p:nvPicPr>
        <p:blipFill>
          <a:blip r:embed="rId1"/>
          <a:stretch/>
        </p:blipFill>
        <p:spPr>
          <a:xfrm>
            <a:off x="2286000" y="1371600"/>
            <a:ext cx="4659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Shoes waiting to be process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Picture 3" descr="ShoeHeap"/>
          <p:cNvPicPr/>
          <p:nvPr/>
        </p:nvPicPr>
        <p:blipFill>
          <a:blip r:embed="rId1"/>
          <a:stretch/>
        </p:blipFill>
        <p:spPr>
          <a:xfrm>
            <a:off x="1905120" y="1752480"/>
            <a:ext cx="5181480" cy="39769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380880" y="5715000"/>
            <a:ext cx="8153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Taken inside a huge glass case in the Auschwitz Museum. This represents one day's collection at the peak of the gassings, about twenty five thousand pairs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locaust Tattoo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572000" cy="3597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38098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How did the Jews resis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n like Oscar Schindler helped Jews escape the Final Solu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1943, the Warsaw Ghetto, like many others revolted against the Nazis when the Jews realised what was really happen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Results of the Holocaust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azis managed to kill at least 6 million Jews as well as about 4-5 million gypsies, slavs and the disabled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1945 and 1946, as a result of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remberg Trial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12 Nazi leaders were sentenced to death for their war crim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676520" y="5105520"/>
            <a:ext cx="6095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4148280"/>
            <a:ext cx="350496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Prelude to the Final S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16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n 1939, Germany invaded Poland which had a much larger population of 3 million Jewish peo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n 1941, Germany invaded Russia which had a population of     5 million Jewish peo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7" descr="Maps"/>
          <p:cNvPicPr/>
          <p:nvPr/>
        </p:nvPicPr>
        <p:blipFill>
          <a:blip r:embed="rId1"/>
          <a:stretch/>
        </p:blipFill>
        <p:spPr>
          <a:xfrm>
            <a:off x="609480" y="1447920"/>
            <a:ext cx="380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irst Tactic used : Einsatzgruppen (assassination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" name="Picture 5" descr="EINGROU2"/>
          <p:cNvPicPr/>
          <p:nvPr/>
        </p:nvPicPr>
        <p:blipFill>
          <a:blip r:embed="rId1"/>
          <a:stretch/>
        </p:blipFill>
        <p:spPr>
          <a:xfrm>
            <a:off x="1371600" y="1523880"/>
            <a:ext cx="6172200" cy="4938840"/>
          </a:xfrm>
          <a:prstGeom prst="rect">
            <a:avLst/>
          </a:prstGeom>
          <a:ln w="0">
            <a:noFill/>
          </a:ln>
        </p:spPr>
      </p:pic>
      <p:pic>
        <p:nvPicPr>
          <p:cNvPr id="59" name="MacOS" descr=""/>
          <p:cNvPicPr/>
          <p:nvPr/>
        </p:nvPicPr>
        <p:blipFill>
          <a:blip r:embed="rId2"/>
          <a:stretch/>
        </p:blipFill>
        <p:spPr>
          <a:xfrm>
            <a:off x="7772400" y="57913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he Final S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57240" y="17524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Times New Roman"/>
              </a:rPr>
              <a:t>In January 1942, Heinrich Himmler the head of the SS soldiers organized the plan for the Final Solutio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6" descr="Himmler"/>
          <p:cNvPicPr/>
          <p:nvPr/>
        </p:nvPicPr>
        <p:blipFill>
          <a:blip r:embed="rId1"/>
          <a:stretch/>
        </p:blipFill>
        <p:spPr>
          <a:xfrm>
            <a:off x="782640" y="1752480"/>
            <a:ext cx="2774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5"/>
          <p:cNvSpPr/>
          <p:nvPr/>
        </p:nvSpPr>
        <p:spPr>
          <a:xfrm>
            <a:off x="2666880" y="2590920"/>
            <a:ext cx="3505320" cy="19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00400" y="30481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ow was the Final Solution going to be organis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172200" y="129528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hooting wasted bullets --Gas chambers were more effe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477120" y="3048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ve  into Ghetto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324480" y="48769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 these Ghettos were to be used as a cheap source of labou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590920" y="5029200"/>
            <a:ext cx="365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ditions in the Ghettos were designed to be so bad that many die while the rest would be willing to leave these areas in the hope of better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0" y="29718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n arrival they would go through a ‘selection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 flipV="1">
            <a:off x="5562720" y="236232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6172200" y="3581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5943600" y="41148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434340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152280" y="4724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ved to concentration cam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152280" y="12952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omen, children, the old &amp; the sick were to be sent for ‘special treatment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819520" y="129528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young and fit would go through a process called ‘destruction through work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19"/>
          <p:cNvSpPr/>
          <p:nvPr/>
        </p:nvSpPr>
        <p:spPr>
          <a:xfrm flipH="1">
            <a:off x="1904760" y="4191120"/>
            <a:ext cx="11430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20"/>
          <p:cNvSpPr/>
          <p:nvPr/>
        </p:nvSpPr>
        <p:spPr>
          <a:xfrm flipH="1">
            <a:off x="2437920" y="3581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21"/>
          <p:cNvSpPr/>
          <p:nvPr/>
        </p:nvSpPr>
        <p:spPr>
          <a:xfrm flipH="1" flipV="1">
            <a:off x="2133720" y="236196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22"/>
          <p:cNvSpPr/>
          <p:nvPr/>
        </p:nvSpPr>
        <p:spPr>
          <a:xfrm flipV="1">
            <a:off x="4419720" y="22856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Where were the Death Camps built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Picture 3" descr="MAP"/>
          <p:cNvPicPr/>
          <p:nvPr/>
        </p:nvPicPr>
        <p:blipFill>
          <a:blip r:embed="rId1"/>
          <a:stretch/>
        </p:blipFill>
        <p:spPr>
          <a:xfrm>
            <a:off x="914400" y="1143000"/>
            <a:ext cx="7086600" cy="510228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14"/>
          <p:cNvGrpSpPr/>
          <p:nvPr/>
        </p:nvGrpSpPr>
        <p:grpSpPr>
          <a:xfrm>
            <a:off x="1143000" y="2286000"/>
            <a:ext cx="6553080" cy="4422240"/>
            <a:chOff x="1143000" y="2286000"/>
            <a:chExt cx="6553080" cy="4422240"/>
          </a:xfrm>
        </p:grpSpPr>
        <p:sp>
          <p:nvSpPr>
            <p:cNvPr id="84" name="Text Box 4"/>
            <p:cNvSpPr/>
            <p:nvPr/>
          </p:nvSpPr>
          <p:spPr>
            <a:xfrm>
              <a:off x="1143000" y="624852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Why do you think that they located them here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5"/>
            <p:cNvSpPr/>
            <p:nvPr/>
          </p:nvSpPr>
          <p:spPr>
            <a:xfrm flipH="1" flipV="1">
              <a:off x="5257800" y="3733920"/>
              <a:ext cx="533520" cy="2590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Oval 7"/>
            <p:cNvSpPr/>
            <p:nvPr/>
          </p:nvSpPr>
          <p:spPr>
            <a:xfrm>
              <a:off x="4267080" y="2286000"/>
              <a:ext cx="1447920" cy="1523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Text Box 8"/>
          <p:cNvSpPr/>
          <p:nvPr/>
        </p:nvSpPr>
        <p:spPr>
          <a:xfrm>
            <a:off x="6019920" y="12952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work of the Einsatzgrupp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10"/>
          <p:cNvSpPr/>
          <p:nvPr/>
        </p:nvSpPr>
        <p:spPr>
          <a:xfrm flipH="1">
            <a:off x="5943240" y="1905120"/>
            <a:ext cx="762120" cy="533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11"/>
          <p:cNvSpPr/>
          <p:nvPr/>
        </p:nvSpPr>
        <p:spPr>
          <a:xfrm flipH="1">
            <a:off x="6705360" y="1981080"/>
            <a:ext cx="7596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6781680" y="2438280"/>
            <a:ext cx="457200" cy="99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13"/>
          <p:cNvSpPr/>
          <p:nvPr/>
        </p:nvSpPr>
        <p:spPr>
          <a:xfrm flipH="1">
            <a:off x="5562360" y="1676520"/>
            <a:ext cx="685800" cy="759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What tactics did the Nazis use to get the Jews to leave the Ghetto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Oval 3"/>
          <p:cNvSpPr/>
          <p:nvPr/>
        </p:nvSpPr>
        <p:spPr>
          <a:xfrm>
            <a:off x="2895480" y="2819520"/>
            <a:ext cx="2590920" cy="1752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429000" y="3352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ac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477120" y="16765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Sta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6"/>
          <p:cNvSpPr/>
          <p:nvPr/>
        </p:nvSpPr>
        <p:spPr>
          <a:xfrm flipV="1">
            <a:off x="5181480" y="2057040"/>
            <a:ext cx="198144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324480" y="25909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The Jews in the Warsaw Ghetto were only fed a 1000 calories a day </a:t>
            </a:r>
            <a:r>
              <a:rPr b="0" lang="en-GB" sz="16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6400800" y="449568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A Human being needs 2400 calories a day to maintain their we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9"/>
          <p:cNvSpPr/>
          <p:nvPr/>
        </p:nvSpPr>
        <p:spPr>
          <a:xfrm>
            <a:off x="7620120" y="3886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76201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429000" y="4800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rr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2743200" y="548640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The SS publicly shot people for smuggling food or for any act of res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04920" y="1523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De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152280" y="22096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The Jews were told that they were going to ‘resettlement areas’ in the Ea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28600" y="365760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In some Ghettos the Jews had to purchase their own train ti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304920" y="5105520"/>
            <a:ext cx="1904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They were told to bring the tools of their trade and pots and pa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7620120" y="54100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553080" y="57150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ungry people are easier to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42670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4267080" y="5257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21"/>
          <p:cNvSpPr/>
          <p:nvPr/>
        </p:nvSpPr>
        <p:spPr>
          <a:xfrm flipH="1" flipV="1">
            <a:off x="2133720" y="1981080"/>
            <a:ext cx="121896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22"/>
          <p:cNvSpPr/>
          <p:nvPr/>
        </p:nvSpPr>
        <p:spPr>
          <a:xfrm>
            <a:off x="1295280" y="2057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23"/>
          <p:cNvSpPr/>
          <p:nvPr/>
        </p:nvSpPr>
        <p:spPr>
          <a:xfrm>
            <a:off x="12952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129528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25"/>
          <p:cNvSpPr/>
          <p:nvPr/>
        </p:nvSpPr>
        <p:spPr>
          <a:xfrm>
            <a:off x="2133720" y="1905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3581280" y="152388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New arrivals at the Death camps were given postcards to send to their friends.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hildren Dying of Starvation in the Warsaw Ghet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Gheto life2"/>
          <p:cNvPicPr/>
          <p:nvPr/>
        </p:nvPicPr>
        <p:blipFill>
          <a:blip r:embed="rId1"/>
          <a:stretch/>
        </p:blipFill>
        <p:spPr>
          <a:xfrm>
            <a:off x="4495680" y="1676520"/>
            <a:ext cx="4259520" cy="4495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Ghetto life"/>
          <p:cNvPicPr/>
          <p:nvPr/>
        </p:nvPicPr>
        <p:blipFill>
          <a:blip r:embed="rId2"/>
          <a:stretch/>
        </p:blipFill>
        <p:spPr>
          <a:xfrm>
            <a:off x="228600" y="1676520"/>
            <a:ext cx="4724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12:08:41Z</dcterms:created>
  <dc:creator>RJ Huggins</dc:creator>
  <dc:description/>
  <dc:language>en-US</dc:language>
  <cp:lastModifiedBy>NYCDOE</cp:lastModifiedBy>
  <dcterms:modified xsi:type="dcterms:W3CDTF">2012-03-01T12:32:56Z</dcterms:modified>
  <cp:revision>48</cp:revision>
  <dc:subject/>
  <dc:title>The Jews 1940 - 1945</dc:title>
</cp:coreProperties>
</file>